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30C-A554-460B-A60E-7F0E343D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ECD-153C-4E69-8B2A-32FA6986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04D-8731-4C60-BEF1-CE520F9C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D95-2EE4-435A-B627-110F23FC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D28A-555D-4065-9FC4-A998F25A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2EE6-CF14-41A3-9D80-5ABBCAAB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1D65-5EAB-4514-A88C-07EDC796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5D3F-E9BC-4DF3-B8DD-438442E3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935A-E2F0-483D-8A13-DFD5DBE7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F3A4-ABF6-4F77-8B77-16A42ACE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5905-0011-4D35-8218-44BA6000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696-4519-42DD-BB49-9173A10D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8106-89B2-4DA0-831F-BE6B8370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4F52-2CD7-4C03-9C4D-444609D6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4F1E-8674-4514-96D9-1500668F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116D-561B-40D2-897A-ECFDC245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57BD-FB81-492A-808A-F09B764A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6F6-1E4F-41CE-8CAF-E787EBEB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279-81A0-451E-AFB7-E5D0CC25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584-F286-4E34-BB17-44EB623A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F5E-EF62-4A18-8837-48002059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683-9887-47A1-A6D7-C9CD85D4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861-5891-440E-8404-166012DC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0C95-BB76-4AA6-8C05-714B09B0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2E55-3A1E-4834-BEDE-8A09B4E787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E0B7-C4B2-40E4-9856-61019F74B1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2388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r>
              <a:rPr b="0" lang="en-US" sz="5600" spc="-1" strike="noStrike">
                <a:solidFill>
                  <a:srgbClr val="ffffff"/>
                </a:solidFill>
                <a:latin typeface="Times New Roman"/>
              </a:rPr>
              <a:t>Roberto Clemente </a:t>
            </a:r>
            <a:br>
              <a:rPr sz="5600"/>
            </a:br>
            <a:r>
              <a:rPr b="0" lang="en-US" sz="5600" spc="-1" strike="noStrike">
                <a:solidFill>
                  <a:srgbClr val="ffffff"/>
                </a:solidFill>
                <a:latin typeface="Times New Roman"/>
              </a:rPr>
              <a:t>iTeach iLearn </a:t>
            </a:r>
            <a:br>
              <a:rPr sz="5600"/>
            </a:b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ptop Comput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n-Negotiab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hones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Infrac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ngaging in scholastic dishonesty, i.e. cheating plagiarizing, copying or sharing another’s work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rent conference  requir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ossible suspens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he Intern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Infrac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iolating the Department of Education’s Internet Policy – viewing inappropriate internet sit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ss of privilege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rent conference require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ther means developed to complete assignm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ssible suspension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sign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Infrac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t completing assignme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Consequence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Parent  contact/conferenc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Deten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Completion of  missed assignment(s)  and additional work.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mage to School Proper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Infrac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gaging in vandalism, graffiti or other intentional  damage to school property, or property belonging to staff, students or other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Parent conference requir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Suspension  (Principal,  Superintendent, or Regional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0:04:03Z</dcterms:created>
  <dc:creator>Marvan C.  Bunbury</dc:creator>
  <dc:description/>
  <dc:language>en-US</dc:language>
  <cp:lastModifiedBy>Marvan C.  Bunbury</cp:lastModifiedBy>
  <dcterms:modified xsi:type="dcterms:W3CDTF">2006-04-28T00:35:18Z</dcterms:modified>
  <cp:revision>4</cp:revision>
  <dc:subject/>
  <dc:title>iTeach iLearn  Laptop Computer Non-Negotiables </dc:title>
</cp:coreProperties>
</file>